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F390E-F59A-4588-8862-C3B68F2A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766760"/>
            <a:ext cx="7010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088AC-C862-42EC-B7F8-7B25E3A8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072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76676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76676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01A01-49A6-477D-9DA9-F163B10D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225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0720"/>
            <a:ext cx="225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0720"/>
            <a:ext cx="225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766760"/>
            <a:ext cx="225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766760"/>
            <a:ext cx="225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766760"/>
            <a:ext cx="225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71AB0-9547-466F-8317-97E4B874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A88E-869C-4EEA-9E5C-C24F96C7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1BEC-7394-49F5-9D0E-A609E03A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F052-8DB2-4774-92B5-E5174989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3420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0720"/>
            <a:ext cx="3420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87B4-02D2-4513-810F-1F6B44EC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4C51-CFB1-46BA-B4DF-EBD3CBF9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FE2F-C2C6-43C9-BABF-58DDCD4F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0720"/>
            <a:ext cx="3420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76676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0703-2CC7-4CA1-8CF1-D5566F67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BBC3C-D1CD-4AF1-A4CC-F48DE857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3420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072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76676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B30F-CF47-497E-B837-B7E90F33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072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766760"/>
            <a:ext cx="7010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CFE2-77AE-49CF-B8B2-1191735B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766760"/>
            <a:ext cx="7010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F142-694B-46DC-9202-A97152E5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072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76676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76676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3882-68A1-4561-8794-61560FD0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225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0720"/>
            <a:ext cx="225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0720"/>
            <a:ext cx="225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766760"/>
            <a:ext cx="225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766760"/>
            <a:ext cx="225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766760"/>
            <a:ext cx="225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122B-8B42-4C56-BB65-972EC0DB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287C2-04BD-498C-B5FD-80E0B83E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3420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0720"/>
            <a:ext cx="3420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16469-F455-4AA4-A01B-70662D1D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D2175-0DB4-4DB8-B57C-03BC85AA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AF658-09CD-4BB6-BAB8-D68EABCA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0720"/>
            <a:ext cx="3420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76676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CB4CC-3A75-4921-850B-8A3F44F9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3420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072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76676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E0D24-26A9-4364-A49A-60A36550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072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766760"/>
            <a:ext cx="7010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2C5FA-DE30-4538-9786-D93EE36E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FCD3-9BC9-4302-939D-9D2FC67CC5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E0A7-410A-4283-A7A9-90652FA489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hapter 29</a:t>
            </a:r>
            <a:br>
              <a:rPr sz="4500"/>
            </a:b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FFLUENCE AND ANXIETY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819160" y="3886200"/>
            <a:ext cx="5257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ivine  </a:t>
            </a:r>
            <a:r>
              <a:rPr b="1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Breen  </a:t>
            </a:r>
            <a:r>
              <a:rPr b="1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Fredrickson  </a:t>
            </a:r>
            <a:r>
              <a:rPr b="1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Williams  </a:t>
            </a:r>
            <a:r>
              <a:rPr b="1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Gross  </a:t>
            </a:r>
            <a:r>
              <a:rPr b="1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Br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5786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Reaction to </a:t>
            </a:r>
            <a:r>
              <a:rPr b="0" i="1" lang="en-US" sz="3900" spc="-1" strike="noStrike">
                <a:solidFill>
                  <a:srgbClr val="ffffff"/>
                </a:solidFill>
                <a:latin typeface="Arial"/>
              </a:rPr>
              <a:t>Sputni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7: Russians launche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ut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ational Aeronautics and Space Administration (NASA)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ational Defense Education Act—upgrade the teaching of scienc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of failure, declined by 19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arewell to Refor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irit of reform waned in postwar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rowing affluence reduced sense of grievanc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mericans eager to enjoy their new prosperit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uman and the Fair Dea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r Deal attempted to expand New D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edical Insurance for all America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vived and strengthened Fair Employment Practices Commission (FEPC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ederal aid to educa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r Deal fai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octor’s lobby convinced people that insurance plan was “socialized medicine”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outherners opposed FEPC and aid to educa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man’s achiev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nsolidated Roosevelt's reform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t the agenda for future attempts to expand New Dea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isenhower's Modern Republicanis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senhower left New Deal int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aised minimum wage and expanded Social Securit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reated Department of Health, Education, and Welfar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4: Democrats regained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6: Highway Act created interstate highway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timulated the economy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haped metropolitan growth pattern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Eisenhower years were politically moder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Interstate Highway Syste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3244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Election of 1956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23261" r="0" b="6955"/>
          <a:stretch/>
        </p:blipFill>
        <p:spPr>
          <a:xfrm>
            <a:off x="457200" y="2819520"/>
            <a:ext cx="8305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Struggle Over Civil Righ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d War prompted quest for American moral supe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discrimination against African Americans challenged U.S. self-im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-Americans expected more in postwar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ivil Rights as a Political Issu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man’s civil-rights legislation f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48: African American vote gave Truman his margin of vi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vil rights made part of the liberal Democratic 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man integrated the armed fo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esegregating the School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4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rown v. Board of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gregated schools unconstitutional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segregate "with all deliberate speed"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ive resistance in Deep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7: Eisenhower’s 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ederal troops sent to Little Rock, Arkansa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mmission on Civil Rights establishe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Beginnings of Black Activis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ACP: Pressed for civil rights in cou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5: Martin Luther King, Jr. led Montgomery bus boyco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6: Southern Christian Leadership Conference directed anti-segre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-ins protested segregation l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0: Student Nonviolent Coordinating Commit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Postwar Boo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45–1960: Rapid economic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0: Fear of another depression w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storing National Confid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people more optimistic in 1960 than in 19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 of economic depression wa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 of Cold War continu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ing recognition of incompatibility of racial injustice with American ide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ostwar Prosperity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i to consumer goods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aby boom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opulation shift to suburbia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defense sp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in capital inves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ment exp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Birthrate, 1940–1970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418320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ostwar Prosperity: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ingering Problem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icultural overproduction, low pr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industrial areas decl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7–1958: Recession slowed decade’s economic grow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ife in the Suburb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ia inhabited by middle cla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of subur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pendence on the automobil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amily togethernes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itional feminism discour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ance of more women into workplace stimulated new femi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Good Life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ism the dominant social theme of the 1950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of life left Americans anxious and dissatis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reas of Greatest Growth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membershi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atten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vision watc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ritics of the Consumer Society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critics of suburban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John Keat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illiam Whyt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avid Riesma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Wright Mills criticized corpo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ck Kerouac, “Beat” artists promote  countercul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6T20:07:10Z</dcterms:created>
  <dc:creator>CMU</dc:creator>
  <dc:description/>
  <cp:keywords/>
  <dc:language>en-US</dc:language>
  <cp:lastModifiedBy>Teresa Ward User</cp:lastModifiedBy>
  <cp:lastPrinted>2012-04-19T01:07:11Z</cp:lastPrinted>
  <dcterms:modified xsi:type="dcterms:W3CDTF">2006-11-10T20:19:57Z</dcterms:modified>
  <cp:revision>9</cp:revision>
  <dc:subject/>
  <dc:title>CHAPTER 29 AFFLUENCE AND ANXIETY: FROM THE FAIR DEAL TO THE GREAT SOCIETY</dc:title>
</cp:coreProperties>
</file>